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FB8-BAEC-4C4F-AA9F-C2071D22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1D1-1EE4-4527-B1DE-CAD065D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E12-D288-4ED6-B4BF-48978D71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4BE-D4D2-4DBC-98A0-739A9538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B83-77D8-485C-817C-C51D4E6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6D6-8D09-4A61-B1B3-644293B6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F01-074C-43DC-8270-478BB18E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489-6273-4780-A643-76485AD1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432-204B-424B-A045-273797C9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52E-A5FD-4692-BDB4-C3610AE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0FE-8B41-4F37-B572-9D8CE46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32F-E028-43A4-B271-6D96C15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0535-A9B5-467D-9DF4-CD3F7AD6D8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章   建筑工程计价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558" t="45811" r="12705" b="23753"/>
          <a:stretch/>
        </p:blipFill>
        <p:spPr>
          <a:xfrm>
            <a:off x="468360" y="126828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按先横后竖、先左后右、先上后下的顺序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4200" t="5039" r="8873" b="66571"/>
          <a:stretch/>
        </p:blipFill>
        <p:spPr>
          <a:xfrm>
            <a:off x="900000" y="1628640"/>
            <a:ext cx="6659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按图上注明的编号、分类依次进行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67380" r="55389" b="0"/>
          <a:stretch/>
        </p:blipFill>
        <p:spPr>
          <a:xfrm>
            <a:off x="755640" y="1557360"/>
            <a:ext cx="734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按图纸上标注的轴线进行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50001" t="67380" r="0" b="0"/>
          <a:stretch/>
        </p:blipFill>
        <p:spPr>
          <a:xfrm>
            <a:off x="755640" y="1773360"/>
            <a:ext cx="7667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七、工程量计算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段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层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补加补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平衡计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1148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统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统筹法的要点是：统筹程序、合理安排；利用基数、连续计算；一次算出、多次应用；结合实际、灵活机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机计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1371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70240" y="228600"/>
            <a:ext cx="497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3729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第三节   基数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、一般线面基数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209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中——建筑平面图中设计外墙中心线的总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内——建筑平面图中设计内墙净长线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581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外——建筑平面图中外墙外边线的总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2591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净——建筑基础平面图中内墙砼基础或垫层净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021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底建——建筑物底层建筑面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715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房心——建筑平面图中房心净面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00×2+3.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2=18.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4+3.5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2=19.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8.60+0.24×4=19.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0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.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4=3.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.24×3.54=22.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房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00×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4×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6.8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0"/>
          <a:ext cx="96012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经过批准和会审的全部施工图设计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782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经过批准的项目管理实施规划或施工组织设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7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经过批准的工程设计概算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单位估价表或价目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9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人工工资单价、材料价格、施工机械台班单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7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工程费用定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一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建筑工程计价依据和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87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工程消耗量定额或计价规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1253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建筑工程计价的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302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造价工作手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07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工程承发包合同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2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熟悉施工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熟悉项目管理实施规划和施工现场情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合理划分工程项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00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正确计算工程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149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进行消耗量计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79736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各项费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二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建筑工程计价的步骤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收集计价的基础文件和资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544500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编制说明、填写封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609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复核、装订、审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97000"/>
            <a:ext cx="43560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　　一、工程量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节  工程量计算技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89000"/>
            <a:ext cx="914400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程量是以规定的计量单位表示的工程数量。它是编制建设工程招投标文件和编制建筑安装工程预算、施工组织设计、施工作业计划、材料供应计划、建筑统计和经济核算的依据，也是编制基本建设计划和基本建设财务管理的重要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编制单位工程预算过程中，计算工程量是既费力又费时间的工作，其计算快慢和准确程度，直接影响预算速度和质量。因此，必须认真、准确、迅速地进行工程量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692280"/>
            <a:ext cx="42832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二、工程量计算的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628640"/>
            <a:ext cx="8280360" cy="2653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施工图设计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项目管理实施规划（或施工组织设计）文件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建筑工程量计算规则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建设工程工程量清单计价规范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建筑工程消耗量定额（或企业定额）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工程造价工作手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三、工程量计算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92376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工程量计算应采取表格形式，列出定额编号，项目名称，单位和计算公式。最好用铅笔计算，方便修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工程量计算应按设计图纸规定的尺寸、数量，以及构件、设备明细表等，计算出来具体工程和结构配件的数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严格按照定额和规范规定和工程量计算规则，结合施工图所注位置与尺寸为依据进行计算，应将图纸上标明的毫米数，换算成米数。各个数据应按宽、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长、数量、系数的次序填写，尺寸一般要取图纸所注的尺寸（可读尺寸），计算式一定要注明轴线或部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数字计算要精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按一定的顺序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结合图纸，尽量做到结构按分层计算，内装饰按分层分房间计算，外装饰分立面计算或按施工方案的要求分段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底稿要整齐，数字清楚，数值准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四、工程量计算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算出基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编制统计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编制预制构件加工委托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用统筹法或计算机计算主要项目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算其他项目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工程量整理、汇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五、单位工程工程量计算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197000"/>
            <a:ext cx="691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图纸顺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预算定额的分部分项顺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施工顺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统筹图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预算软件程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　　六、分项工程量计算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从图的左上角开始，顺时针方向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4289" t="4290" r="50001" b="67771"/>
          <a:stretch/>
        </p:blipFill>
        <p:spPr>
          <a:xfrm>
            <a:off x="971640" y="2133720"/>
            <a:ext cx="7200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08:58:12Z</dcterms:modified>
  <cp:revision>122</cp:revision>
  <dc:subject/>
  <dc:title>PowerPoint Presentation</dc:title>
</cp:coreProperties>
</file>